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BEF-C3F8-46BD-AF2F-135881668250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A.  What is it lik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B.  How do people relate to the physical world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C.  How do people, goods, and ideas move from one location to another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D.  Where is it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E.  How are places similar or different?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ACE-7044-4853-A52D-752D438D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A12-F673-452F-855E-9CD13E0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C0D-D211-4965-B6B9-28731F5E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00E-FB1E-4C25-951E-1A6D6FA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F5D-13A8-4A45-9CE3-79F7BEC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28C-C851-4A7E-87F8-9D6AEE92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BD7-4D80-4CAC-BC20-AA1BBFB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5C7-4FB5-4C82-8AB3-D4D1461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B6E-6440-4570-90D1-7DB453D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329-57CD-4509-AC02-EB9B3D4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835-A6CA-486A-9F39-141ED32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5EE-99FC-40CE-BDF7-F41EDF6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483-3A8D-4548-8389-BFBEA919A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US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inal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3623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Olaudah Equiano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352680" y="4572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58128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coming an educated slave and writing about the horros of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4382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the pamphlet written by Thomas Paine to encourage colonists to fight for independ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00400" y="380880"/>
            <a:ext cx="3048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895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first anti-Federalist President to be elected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352680" y="380880"/>
            <a:ext cx="2743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4191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95480" y="0"/>
            <a:ext cx="2819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ederalist Era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909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conomic policies in the US were started by this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9528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exander Hami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3372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man fought Hamilton and believed in the common, poor 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was land acquired under Thomas Jeff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495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86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president during the War of 18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exander Hami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3808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4114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roe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document made the US a major force in the Western Hemi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is the name of the major Native American removal under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il of T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was Jackson so popular with th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n at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80988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 was the first president born West of the Appalachians and he was successful in the War of 18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onie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ks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der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tion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057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are the names of people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ked to end slav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spoils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04812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a person in office hires or appoints friends for political positions as opposed to qualified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05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system called that helped runaway slaves escape nor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343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ground Rail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19051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is the vision that it is the United States’ mission to expand from the Atlantic to Pacific Oc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809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981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on the Election of 1860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3581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raham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was the name of the case that forced a former slave back into slavery after the death of his own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191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ed S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hen Douglas and Abraham Lincoln both ran for president.  However, they disagreed on a key issue about slavery.  What was this issu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41148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ther or not slavery should spread w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ndom 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land did the U.S. purchase after the Mexican War that now forms the border of the Rio Gra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3733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ds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id the South do immediately after Lincoln was elected presi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191120"/>
            <a:ext cx="2666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the major reason why so many people died during the Civil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962520"/>
            <a:ext cx="5486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ericans vs.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w military weapons that had better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711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ritans from England moved to America becaus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7339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 escape religious pers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side had fewer factories, but more experienced gener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80988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a major Union victory that was a turning point in the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3962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ttle of Getty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th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ocument was profound in that it freed slaves, but failed to free ALL slaves in ALL ar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3733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y was the presidency of Rutherford B. Hayes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342900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419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25800" y="4435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4280" y="4397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17880" y="4822920"/>
            <a:ext cx="51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3320" y="4847040"/>
            <a:ext cx="652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publicans and Southerners made a 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 presidency was the end of the Re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286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economic system where America supplied England with raw materials is calle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457200"/>
            <a:ext cx="422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canti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096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colonists feel about the British after the French and Indi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6576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ely.  They doubted their military power and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8288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the incident where colonists dumped British merchandise into the Boston harb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962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ston Tea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752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Americans win the Revolutionary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19112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determined, knew the land better, the war was unpopular with the British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8120" y="304920"/>
            <a:ext cx="2743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3623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branch of government makes the la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3962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is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590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hange to the Constitution is call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457200"/>
            <a:ext cx="3504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962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 amen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1-09T16:48:09Z</dcterms:modified>
  <cp:revision>118</cp:revision>
  <dc:subject/>
  <dc:title>No Slide Title</dc:title>
</cp:coreProperties>
</file>